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gif" ContentType="image/gi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609C-E7E8-4AD4-A3E1-B49BBD0C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90C0-8915-46D6-9F0D-2848F750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E9D-1708-43CE-B28E-BACABFA0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229-66CF-4930-B866-1B050BD8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F4FDF-C391-4947-AAED-A52032B62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D5AD2-9BE3-4F31-8D87-2BF56587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05EBB-C88F-4A4E-B21C-55DCB9FE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1C2BF-80BF-469C-9AB3-81A16FD8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CB5C0-D2F8-45C6-A8BC-F5F5CEF6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04726-5EDD-4183-B1D3-A4C7EE78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B11F8-F5F1-45A1-8203-F6F188F5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B32-F848-43F8-9E97-5371164B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FCE89-7452-4646-80EB-B93E7326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EEBAF-BB64-40E1-961A-6115CF41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AE355-6A73-4AFD-A330-B73F2F62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19B8E-9147-42EE-AF8A-F56B9267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7DCB8-53FB-4385-B6AA-7B96A19A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F290-9AA1-4981-8567-4FC89948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924-D352-4F92-AF42-91E13EFF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5C39-947B-4456-9088-83B547AE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06C-7565-42E2-9B33-45BD771E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4BB-F22A-44A9-9EF9-ECA150D9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1CD-4FE4-42A9-8E59-B7D529C9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C690-645C-442E-8D0A-CD224589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78C7-35A8-418D-AFA1-8551FBCDC9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5EA5-5F9F-46B4-90A2-B94B4BB9FB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Florante and Laur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3880" y="43430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Portfolio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luaga, Fatima 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ella, Grover John 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81280" y="1600200"/>
            <a:ext cx="1852560" cy="2523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8735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8120" y="1066680"/>
            <a:ext cx="319068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read Florante and Laura and relate it to contemporary life. They research a problem from the play that is still an issue today and collaborate to find a solution. They create a publication or presentation about their solution and share it with an audience. They will also create their own ending of the chosen situation in the st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CFQ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ential Question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it mean to love and be lov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t 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he different situations in the story that value relationshi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an we overcome these situations in the story that value relationshi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ent Question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can we apply the things we learned in the story to our personal life experiences like involving conflicts in a relationship towards family, friends, and special someo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Vision for Uni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reating this unit, I wan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out new methods to make classic literature relevant to my students’ l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of ways to involve my students more in th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this unit, I want my students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rn ways to connect literature to their daily l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echnology to communicate with different audi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 and appreciate the study of lit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Project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my students work on this project, th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e3e3ff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 the story to the real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e3e3ff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e with peers and community me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e3e3ff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product that shows what they’ve lear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e3e3ff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 their learning with a real au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5240"/>
            <a:ext cx="82296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21</a:t>
            </a:r>
            <a:r>
              <a:rPr b="1" lang="en-US" sz="4400" spc="-1" strike="noStrike" baseline="30000">
                <a:solidFill>
                  <a:srgbClr val="e3e3ff"/>
                </a:solidFill>
                <a:latin typeface="Arial"/>
              </a:rPr>
              <a:t>st</a:t>
            </a: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 Century Learn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will develop higher-order and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 skills in this unit as th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2336760"/>
            <a:ext cx="8458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buClr>
                <a:srgbClr val="00ffc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Essential and Unit Questions to guide their analysis of the play to find themes that cross places and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00ffc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cate their ideas to a community aud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00ffc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flect on their reading, writing, research, and thinking strategies, and modify and adapt them as nece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buClr>
                <a:srgbClr val="00ffcc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project assessments to self-assess their work and give feedback to their pe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Gauging Student Needs Assessme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693396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e CFQs to l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’ ideas about what a literature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ckground knowledge of characters and plot of 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ssess 2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Century sk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bility to see common elements in classic and contemporary lit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772400" y="1447920"/>
          <a:ext cx="914400" cy="79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1447920"/>
                    <a:ext cx="9144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04920" y="1486080"/>
          <a:ext cx="914400" cy="799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486080"/>
                    <a:ext cx="9144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18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Gauging Student Needs Assessme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447920"/>
            <a:ext cx="685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can use the information from these assessments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2362320"/>
            <a:ext cx="71629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ocus on the elements of the story that students have prior misconceptions abou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lan activities in which they will answer their ques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397836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can use the information from these assessments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876920"/>
            <a:ext cx="70102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mpare their questions to those in previous uni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4520" indent="-34452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t goals for how they will adjust their reading style for this kind of litera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Requests for Feedbac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ways to help students understand the play without paraphrasing and summarizing it for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help assessing students’ higher-order thinking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00:32:57Z</dcterms:created>
  <dc:creator>Judi Yost</dc:creator>
  <dc:description/>
  <dc:language>en-US</dc:language>
  <cp:lastModifiedBy>nave1386</cp:lastModifiedBy>
  <dcterms:modified xsi:type="dcterms:W3CDTF">2010-09-20T09:40:07Z</dcterms:modified>
  <cp:revision>30</cp:revision>
  <dc:subject/>
  <dc:title>What can Romeo and Juliet Teach Us About Ourselves?</dc:title>
</cp:coreProperties>
</file>